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applause.wav" ContentType="audio/x-wav"/>
  <Override PartName="/ppt/media/drumroll.wav" ContentType="audio/x-wav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B9A-B303-46CD-9C24-7EC49632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A1E-8270-4379-A8F7-B0DDF4ED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B14C-E412-49B1-B061-3469D027F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740-B2D1-4E55-A4D3-A374FA6B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92A2-0725-4F38-9EE8-71A30623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80F9-0528-47DC-B8FE-8157A310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FF25-10A8-4981-A58D-A367D4B0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EAFA-E210-49BC-8FE5-6D258F9C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736-34DC-4367-9C8E-F560E434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1937-94A2-4E29-8698-09D7EAE3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90A5-CA73-46BE-B059-6B6419D8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0EF-5781-49E3-814D-E9F8E53A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18B8-63B4-48BC-B48A-60CC9639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BF7C-DBC0-4084-AB56-99AD2815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37A9-5EB4-48F8-9FC9-56BE848E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1BDA-813A-4742-9B4F-72DB3C392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D5AF-EDD1-4C62-AD19-B41E23E7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FB6-108E-4EE5-A287-ED3394E6F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F52-5827-4749-814A-BFAF3A5E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958-E99B-4637-A3F3-42822DB7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DE25-1E3D-482B-B142-E202A573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183-7ACB-4E49-86DC-634D45E3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6C4-AF54-4114-9C4E-21703252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4D3-EB0D-41E9-823F-A7B52983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AA3A-70E3-417E-880E-48072860C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0B4B-42D1-4E9C-99A5-81970092F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59436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nside Out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2 Week 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13" descr="The Circuit"/>
          <p:cNvPicPr/>
          <p:nvPr/>
        </p:nvPicPr>
        <p:blipFill>
          <a:blip r:embed="rId1"/>
          <a:stretch/>
        </p:blipFill>
        <p:spPr>
          <a:xfrm>
            <a:off x="6116760" y="228600"/>
            <a:ext cx="2360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unscrew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lid from off the top of the water ju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pen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ol used for turn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905120" y="3733920"/>
            <a:ext cx="5105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kindergarten teacher kept a jar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terpilla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us to examin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mlike bugs that become butterf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rthw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533520" y="3429000"/>
            <a:ext cx="78483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was an artist at the fair that sol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ketch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peop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ot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819520" y="4495680"/>
            <a:ext cx="3276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m regretted treating the teacher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srespe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ishono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ract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048120" y="3581280"/>
            <a:ext cx="3504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aited patiently to see when the insect would come out of i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co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verin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pider web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3880" y="3657600"/>
            <a:ext cx="5639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was almost noon before Ti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merg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his Saturday morning of extra slee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ppear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ddl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1371600" y="3886200"/>
            <a:ext cx="6019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rancher employ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igra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time to tim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rarely mo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often mo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371600" y="4419720"/>
            <a:ext cx="5486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3520" y="1600200"/>
            <a:ext cx="358128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3520" y="2895480"/>
            <a:ext cx="358128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4920" y="4267080"/>
            <a:ext cx="37335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876920" y="1371600"/>
            <a:ext cx="304776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800600" y="2743200"/>
            <a:ext cx="373392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952880" y="3886200"/>
            <a:ext cx="37339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105520" y="52578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971800" y="19051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o show a lack of respect; to be rude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MCPE07021_0000[1]"/>
          <p:cNvPicPr/>
          <p:nvPr/>
        </p:nvPicPr>
        <p:blipFill>
          <a:blip r:embed="rId1"/>
          <a:stretch/>
        </p:blipFill>
        <p:spPr>
          <a:xfrm>
            <a:off x="3048120" y="4724280"/>
            <a:ext cx="1566720" cy="1903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MCPE06918_0000[1]"/>
          <p:cNvPicPr/>
          <p:nvPr/>
        </p:nvPicPr>
        <p:blipFill>
          <a:blip r:embed="rId2"/>
          <a:stretch/>
        </p:blipFill>
        <p:spPr>
          <a:xfrm>
            <a:off x="6781680" y="4724280"/>
            <a:ext cx="158616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123720" y="1523520"/>
            <a:ext cx="54104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he wormlike larvae of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insects such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s butterflies and moth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505320" y="228600"/>
            <a:ext cx="39621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152280"/>
            <a:ext cx="2666880" cy="4496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MPj04069680000[1]"/>
          <p:cNvPicPr/>
          <p:nvPr/>
        </p:nvPicPr>
        <p:blipFill>
          <a:blip r:embed="rId1"/>
          <a:stretch/>
        </p:blipFill>
        <p:spPr>
          <a:xfrm>
            <a:off x="0" y="2362320"/>
            <a:ext cx="411480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581280" y="2285640"/>
            <a:ext cx="5105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o come into view; come out; come u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419720" y="1143000"/>
            <a:ext cx="35049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8" descr="MPj04275960000[1]"/>
          <p:cNvPicPr/>
          <p:nvPr/>
        </p:nvPicPr>
        <p:blipFill>
          <a:blip r:embed="rId1"/>
          <a:stretch/>
        </p:blipFill>
        <p:spPr>
          <a:xfrm>
            <a:off x="380880" y="685800"/>
            <a:ext cx="3657600" cy="2682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MCj02379230000[1]"/>
          <p:cNvPicPr/>
          <p:nvPr/>
        </p:nvPicPr>
        <p:blipFill>
          <a:blip r:embed="rId2"/>
          <a:stretch/>
        </p:blipFill>
        <p:spPr>
          <a:xfrm>
            <a:off x="2590920" y="4267080"/>
            <a:ext cx="14572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00400" y="19051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orker, especially a farm worker, who travels from one area to another in search of work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9" descr="MPj04037490000[1]"/>
          <p:cNvPicPr/>
          <p:nvPr/>
        </p:nvPicPr>
        <p:blipFill>
          <a:blip r:embed="rId1"/>
          <a:stretch/>
        </p:blipFill>
        <p:spPr>
          <a:xfrm>
            <a:off x="533520" y="53352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MPj04065340000[1]"/>
          <p:cNvPicPr/>
          <p:nvPr/>
        </p:nvPicPr>
        <p:blipFill>
          <a:blip r:embed="rId2"/>
          <a:stretch/>
        </p:blipFill>
        <p:spPr>
          <a:xfrm>
            <a:off x="304920" y="4267080"/>
            <a:ext cx="342900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0040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drawn roughly and quickl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6" descr="MPj04386750000[1]"/>
          <p:cNvPicPr/>
          <p:nvPr/>
        </p:nvPicPr>
        <p:blipFill>
          <a:blip r:embed="rId1"/>
          <a:stretch/>
        </p:blipFill>
        <p:spPr>
          <a:xfrm>
            <a:off x="228600" y="304920"/>
            <a:ext cx="3378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loosened or taken off by turn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Picture 9" descr="MCj02312330000[1]"/>
          <p:cNvPicPr/>
          <p:nvPr/>
        </p:nvPicPr>
        <p:blipFill>
          <a:blip r:embed="rId1"/>
          <a:stretch/>
        </p:blipFill>
        <p:spPr>
          <a:xfrm>
            <a:off x="2514600" y="4905360"/>
            <a:ext cx="2233440" cy="1952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499620000[1]"/>
          <p:cNvPicPr/>
          <p:nvPr/>
        </p:nvPicPr>
        <p:blipFill>
          <a:blip r:embed="rId2"/>
          <a:stretch/>
        </p:blipFill>
        <p:spPr>
          <a:xfrm>
            <a:off x="5943600" y="5105520"/>
            <a:ext cx="179856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of silky thread spun by the larvae of various insects to live in while they are developing into adul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8600" y="304920"/>
            <a:ext cx="26668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co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resp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er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gr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ketc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screw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6" descr="Picture of Butterfly Cocoon Picture"/>
          <p:cNvPicPr/>
          <p:nvPr/>
        </p:nvPicPr>
        <p:blipFill>
          <a:blip r:embed="rId1"/>
          <a:stretch/>
        </p:blipFill>
        <p:spPr>
          <a:xfrm>
            <a:off x="228600" y="304920"/>
            <a:ext cx="2989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dyera</cp:lastModifiedBy>
  <dcterms:modified xsi:type="dcterms:W3CDTF">2011-01-24T16:01:30Z</dcterms:modified>
  <cp:revision>29</cp:revision>
  <dc:subject/>
  <dc:title>Frindle Vocabulary Words</dc:title>
</cp:coreProperties>
</file>